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png" ContentType="image/png"/>
  <Override PartName="/ppt/media/image12.wmf" ContentType="image/x-wmf"/>
  <Override PartName="/ppt/media/image24.jpeg" ContentType="image/jpeg"/>
  <Override PartName="/ppt/media/image3.jpeg" ContentType="image/jpeg"/>
  <Override PartName="/ppt/media/image4.gif" ContentType="image/gif"/>
  <Override PartName="/ppt/media/explode.wav" ContentType="audio/x-wav"/>
  <Override PartName="/ppt/media/image7.jpeg" ContentType="image/jpeg"/>
  <Override PartName="/ppt/media/breeze.wav" ContentType="audio/x-wav"/>
  <Override PartName="/ppt/media/applause.wav" ContentType="audio/x-wav"/>
  <Override PartName="/ppt/media/image8.wmf" ContentType="image/x-wmf"/>
  <Override PartName="/ppt/media/image13.wmf" ContentType="image/x-wmf"/>
  <Override PartName="/ppt/media/image10.jpeg" ContentType="image/jpeg"/>
  <Override PartName="/ppt/media/image9.wmf" ContentType="image/x-wmf"/>
  <Override PartName="/ppt/media/image1.gif" ContentType="image/gif"/>
  <Override PartName="/ppt/media/image11.jpeg" ContentType="image/jpeg"/>
  <Override PartName="/ppt/media/image23.wmf" ContentType="image/x-wmf"/>
  <Override PartName="/ppt/media/image14.jpeg" ContentType="image/jpeg"/>
  <Override PartName="/ppt/media/image25.wmf" ContentType="image/x-wmf"/>
  <Override PartName="/ppt/media/image15.jpeg" ContentType="image/jpeg"/>
  <Override PartName="/ppt/media/laser.wav" ContentType="audio/x-wav"/>
  <Override PartName="/ppt/media/image5.wmf" ContentType="image/x-wmf"/>
  <Override PartName="/ppt/media/image16.jpeg" ContentType="image/jpeg"/>
  <Override PartName="/ppt/media/image17.wmf" ContentType="image/x-wmf"/>
  <Override PartName="/ppt/media/image2.jpeg" ContentType="image/jpeg"/>
  <Override PartName="/ppt/media/image18.wmf" ContentType="image/x-wmf"/>
  <Override PartName="/ppt/media/image19.jpeg" ContentType="image/jpeg"/>
  <Override PartName="/ppt/media/image20.jpeg" ContentType="image/jpeg"/>
  <Override PartName="/ppt/media/image6.jpeg" ContentType="image/jpeg"/>
  <Override PartName="/ppt/media/image21.wmf" ContentType="image/x-wmf"/>
  <Override PartName="/ppt/media/image22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10E5-DC89-4D2F-B19C-2D969C20F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9E04-2285-46AA-B898-8A06D6150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6798-83D2-49E8-B590-0B2D575F0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3137-54F9-4769-B1AC-EC824C6B0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55CD1-C27C-4EF9-855F-A29ED71B3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68361-E842-4A19-AD0B-8C47F1B07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9656A-7AA7-433D-BF14-5D2E23262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4CED9-38CB-4C86-80EF-7A5F463D6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32D32-6C39-44B4-985F-24F4FB900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733D3-3351-4C33-A7E6-A40E11424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61689-5162-4C41-8F3E-AF92FC32B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E178-EA08-47D0-8905-52A5D1CDA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17ECD-FBE5-40AE-971B-692A3B057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76FC9-AA0A-455E-95CD-46811BA09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2CB64-984E-497B-9439-16CDD79F3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2F4DA-7A61-46FE-8DCB-C09FD555A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B8865-449E-41F1-B7C0-87D4C61BD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7F09-5B2C-4E20-9359-E074B4825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18F1-7254-41C6-8EC7-E578FDD8B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AE38-05EA-41F2-BCF0-DB61551E6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9ACD-5913-4102-98AF-A2F6E0BC6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2511-DBD6-46CB-ADD8-3B3E59EFB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A1EE-E17B-4892-8CC8-C18367E86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1E31-60E9-4F39-BC83-DB7AFECE2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03326-DDC7-4788-A15C-9C9088FCEC4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43FB6-8142-4F12-B704-E8470AF94A9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harcourtschool.com/activity/states_of_matter/" TargetMode="External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gif"/><Relationship Id="rId3" Type="http://schemas.openxmlformats.org/officeDocument/2006/relationships/image" Target="../media/image23.wmf"/><Relationship Id="rId4" Type="http://schemas.openxmlformats.org/officeDocument/2006/relationships/image" Target="../media/image24.jpeg"/><Relationship Id="rId5" Type="http://schemas.openxmlformats.org/officeDocument/2006/relationships/image" Target="../media/image25.wmf"/><Relationship Id="rId6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file:///usr/lib/libreoffice/share/gallery/sounds/applause.wav" TargetMode="External"/><Relationship Id="rId2" Type="http://schemas.microsoft.com/office/2007/relationships/media" Target="file:///usr/lib/libreoffice/share/gallery/sounds/applause.wav" TargetMode="External"/><Relationship Id="rId3" Type="http://schemas.openxmlformats.org/officeDocument/2006/relationships/image" Target="../media/image26.png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wmf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993080" cy="31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10199"/>
                </a:solidFill>
                <a:latin typeface="Caveman"/>
              </a:rPr>
              <a:t>THE THREE STATES</a:t>
            </a:r>
            <a:br>
              <a:rPr sz="4000"/>
            </a:br>
            <a:r>
              <a:rPr b="1" lang="en-US" sz="4400" spc="-1" strike="noStrike">
                <a:solidFill>
                  <a:srgbClr val="010199"/>
                </a:solidFill>
                <a:latin typeface="Caveman"/>
              </a:rPr>
              <a:t> </a:t>
            </a:r>
            <a:r>
              <a:rPr b="1" lang="en-US" sz="3200" spc="-1" strike="noStrike">
                <a:solidFill>
                  <a:srgbClr val="010199"/>
                </a:solidFill>
                <a:latin typeface="Caveman"/>
              </a:rPr>
              <a:t>OF</a:t>
            </a:r>
            <a:br>
              <a:rPr sz="3200"/>
            </a:br>
            <a:r>
              <a:rPr b="1" lang="en-US" sz="4400" spc="-1" strike="noStrike">
                <a:solidFill>
                  <a:srgbClr val="010199"/>
                </a:solidFill>
                <a:latin typeface="Caveman"/>
              </a:rPr>
              <a:t>MATTER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Caveman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438280" y="3733560"/>
            <a:ext cx="50292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Kristen ITC"/>
              </a:rPr>
              <a:t>B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Kristen ITC"/>
              </a:rPr>
              <a:t>Mary Beth Mas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Kristen ITC"/>
              </a:rPr>
              <a:t>Wise Primary Sch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2000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hysical changes in matte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676160" y="1523880"/>
            <a:ext cx="7467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 Physical change is a change in how matter looks, but not the kind of matter is it 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l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rit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qu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x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24000">
    <p:split dir="in" orient="vert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10199"/>
                </a:solidFill>
                <a:latin typeface="Arial"/>
              </a:rPr>
              <a:t>PHYSICAL CHANG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915840" y="2284560"/>
            <a:ext cx="3902400" cy="31240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6553080" y="1523880"/>
            <a:ext cx="1549440" cy="18162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6248520" y="4343400"/>
            <a:ext cx="1911240" cy="2189160"/>
          </a:xfrm>
          <a:prstGeom prst="rect">
            <a:avLst/>
          </a:prstGeom>
          <a:ln w="0">
            <a:noFill/>
          </a:ln>
        </p:spPr>
      </p:pic>
    </p:spTree>
  </p:cSld>
  <p:transition advTm="6000">
    <p:comb dir="horz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8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hemical changes in matte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 Matter is forme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rn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t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ok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481640" y="29703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8000">
    <p:split dir="in" orient="vert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10199"/>
                </a:solidFill>
                <a:latin typeface="Arial"/>
              </a:rPr>
              <a:t>CHEMICAL CHANG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104840" y="1785960"/>
            <a:ext cx="2743200" cy="18162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794200" y="1600200"/>
            <a:ext cx="1748160" cy="21859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3733920" y="4419720"/>
            <a:ext cx="2095560" cy="1939680"/>
          </a:xfrm>
          <a:prstGeom prst="rect">
            <a:avLst/>
          </a:prstGeom>
          <a:ln w="0">
            <a:noFill/>
          </a:ln>
        </p:spPr>
      </p:pic>
    </p:spTree>
  </p:cSld>
  <p:transition advTm="5000">
    <p:comb dir="horz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8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Let’s watch a video clip about matter!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States of Mat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>
            <a:hlinkClick r:id="" action="ppaction://hlinkshowjump?jump=nextslide"/>
          </p:cNvPr>
          <p:cNvSpPr/>
          <p:nvPr/>
        </p:nvSpPr>
        <p:spPr>
          <a:xfrm>
            <a:off x="6477120" y="53341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2" h="21600">
                <a:moveTo>
                  <a:pt x="10990" y="3794"/>
                </a:moveTo>
                <a:lnTo>
                  <a:pt x="25003" y="10800"/>
                </a:lnTo>
                <a:lnTo>
                  <a:pt x="10990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638680" y="6019920"/>
            <a:ext cx="26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go to the next slid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10199"/>
                </a:solidFill>
                <a:latin typeface="Arial"/>
              </a:rPr>
              <a:t>Is this a solid, a liquid, or a gas?</a:t>
            </a:r>
            <a:br>
              <a:rPr sz="3600"/>
            </a:b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Can you find more than one type of matter in any of the pictures?</a:t>
            </a:r>
            <a:endParaRPr b="0" lang="en-US" sz="2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523880" y="2438280"/>
            <a:ext cx="2154240" cy="13986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 rot="21556800">
            <a:off x="6705360" y="4419360"/>
            <a:ext cx="2189160" cy="21891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380880" y="4419720"/>
            <a:ext cx="2189160" cy="21891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3962520" y="1447920"/>
            <a:ext cx="1647720" cy="1176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3124080" y="3505320"/>
            <a:ext cx="3127320" cy="31273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6"/>
          <a:stretch/>
        </p:blipFill>
        <p:spPr>
          <a:xfrm>
            <a:off x="6400800" y="2971800"/>
            <a:ext cx="1873080" cy="12254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7"/>
          <a:stretch/>
        </p:blipFill>
        <p:spPr>
          <a:xfrm>
            <a:off x="6553080" y="1371600"/>
            <a:ext cx="2210040" cy="14698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8"/>
          <a:stretch/>
        </p:blipFill>
        <p:spPr>
          <a:xfrm>
            <a:off x="152280" y="1295280"/>
            <a:ext cx="1584360" cy="2133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10199"/>
                </a:solidFill>
                <a:latin typeface="Arial"/>
              </a:rPr>
              <a:t>Is this a physical change or a chemical change?</a:t>
            </a:r>
            <a:r>
              <a:rPr b="0" lang="en-US" sz="29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99ff"/>
                </a:solidFill>
                <a:latin typeface="Arial"/>
              </a:rPr>
              <a:t>Can you find more than one physical or chemical change in the pictures?</a:t>
            </a:r>
            <a:endParaRPr b="0" lang="en-US" sz="1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343400" y="5029200"/>
            <a:ext cx="1797120" cy="14540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5105520" y="2057400"/>
            <a:ext cx="2109600" cy="16621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762120" y="4572000"/>
            <a:ext cx="1982520" cy="19684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7010280" y="4114800"/>
            <a:ext cx="1833840" cy="16207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5"/>
          <a:stretch/>
        </p:blipFill>
        <p:spPr>
          <a:xfrm>
            <a:off x="1523880" y="1905120"/>
            <a:ext cx="233208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The Three States of Matter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al Project fo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hancing SOL Instruction to Teach Multiple Intellig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y Beth Mas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se Primary Sch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5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5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5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5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5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5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5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5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3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8" dur="4716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55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99ff"/>
                </a:solidFill>
                <a:latin typeface="Arial"/>
              </a:rPr>
              <a:t>What is matter?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447920" y="3505320"/>
            <a:ext cx="63244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Matter is anything that has mass and takes up space.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8000">
    <p:wipe dir="d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98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98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roperties of Matte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It Looks (Shiny ,Dull, Color, etc.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It Feels (Hard, Soft, Rough , Smooth, etc.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It Smells (Sweet, Sharp, Terrible, No Smell, etc.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It Sounds (Loud, Soft, Echo, No Sound, etc.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t Does (Bounce, Stretch, Tear, Break, Magnetism etc.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28000">
    <p:wipe dir="d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98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98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98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98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98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98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800" spc="-1" strike="noStrike">
                <a:solidFill>
                  <a:srgbClr val="b2b2b2"/>
                </a:solidFill>
                <a:latin typeface="FlashDLig"/>
              </a:rPr>
              <a:t>SOLIDS</a:t>
            </a:r>
            <a:endParaRPr b="0" lang="en-US" sz="12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648320" y="3886200"/>
            <a:ext cx="915840" cy="19828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935760" y="2284560"/>
            <a:ext cx="1449360" cy="21906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751040" y="2135160"/>
            <a:ext cx="2192400" cy="2189160"/>
          </a:xfrm>
          <a:prstGeom prst="rect">
            <a:avLst/>
          </a:prstGeom>
          <a:ln w="0">
            <a:noFill/>
          </a:ln>
        </p:spPr>
      </p:pic>
    </p:spTree>
  </p:cSld>
  <p:transition advTm="8000">
    <p:wedge/>
    <p:sndAc>
      <p:stSnd>
        <p:snd r:embed="rId4" name="laser.wav"/>
      </p:stSnd>
    </p:sndAc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768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5" dur="768" fill="hold"/>
                                        <p:tgtEl>
                                          <p:spTgt spid="1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" dur="768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" dur="768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OLID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olid is matter that has that has definite size and shape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:  Put a sneaker in a box.  It stays the sa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b2b2b2"/>
                </a:solidFill>
                <a:latin typeface="FlashDLig"/>
              </a:rPr>
              <a:t>Liquids</a:t>
            </a:r>
            <a:endParaRPr b="0" lang="en-US" sz="129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2160" y="2692440"/>
            <a:ext cx="2860560" cy="19368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484960" y="2441520"/>
            <a:ext cx="2203200" cy="3351240"/>
          </a:xfrm>
          <a:prstGeom prst="rect">
            <a:avLst/>
          </a:prstGeom>
          <a:ln w="0">
            <a:noFill/>
          </a:ln>
        </p:spPr>
      </p:pic>
    </p:spTree>
  </p:cSld>
  <p:transition advTm="5000">
    <p:wedge/>
    <p:sndAc>
      <p:stSnd>
        <p:snd r:embed="rId3" name="breeze.wav"/>
      </p:stSnd>
    </p:sndAc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768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3" dur="768" fill="hold"/>
                                        <p:tgtEl>
                                          <p:spTgt spid="1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5" dur="768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7" dur="768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LIQUID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liquid takes the shape of any contain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:  Pour juice into a glass.  The juice will take on the shape of the gla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486320" y="2756880"/>
            <a:ext cx="18072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800" spc="-1" strike="noStrike">
                <a:solidFill>
                  <a:srgbClr val="b2b2b2"/>
                </a:solidFill>
                <a:latin typeface="FlashDLig"/>
              </a:rPr>
              <a:t>GAS</a:t>
            </a:r>
            <a:endParaRPr b="0" lang="en-US" sz="1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6019920"/>
            <a:ext cx="154080" cy="1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057400" y="2438280"/>
            <a:ext cx="6781680" cy="3886200"/>
          </a:xfrm>
          <a:prstGeom prst="rect">
            <a:avLst/>
          </a:prstGeom>
          <a:ln w="0">
            <a:noFill/>
          </a:ln>
        </p:spPr>
      </p:pic>
    </p:spTree>
  </p:cSld>
  <p:transition advTm="5000">
    <p:wedge/>
    <p:sndAc>
      <p:stSnd>
        <p:snd r:embed="rId2" name="explode.wav"/>
      </p:stSnd>
    </p:sndAc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768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6" dur="768" fill="hold"/>
                                        <p:tgtEl>
                                          <p:spTgt spid="1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8" dur="768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0" dur="768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Ga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s is matter that has no definite shape.  Gases take the shape of whatever container they are in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:  The air all around us is a g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9T16:14:32Z</dcterms:created>
  <dc:creator>mmasters</dc:creator>
  <dc:description/>
  <dc:language>en-US</dc:language>
  <cp:lastModifiedBy>WinuE</cp:lastModifiedBy>
  <dcterms:modified xsi:type="dcterms:W3CDTF">2009-12-28T20:18:12Z</dcterms:modified>
  <cp:revision>14</cp:revision>
  <dc:subject/>
  <dc:title>THE THREE STATES  OF MATTER  </dc:title>
</cp:coreProperties>
</file>